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6C20-9299-43A1-B9F6-5EA0E1BBD6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4C9-9A6B-4DCE-9F30-48889F29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F3D0-FE94-40B1-9745-9EF59C30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EFA-45B5-4D67-83AA-31AD2671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1B6-382F-4301-95CA-94AFB64E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413-3EA7-485A-B60A-669DB6BD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29A-9DE0-415F-A58F-905298D9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878F-331A-4FEC-B0D3-C3429F05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B1AD-237A-47C8-B240-AF2292A8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AA90-5839-4C4F-80D6-CD4C0E6E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11A-37C4-4D8D-B4DD-A392A79E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768A-FD6B-4E13-ADDD-50DB1F45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BB9-0C9F-4198-9E94-4C9A6BC7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C2FB-46C6-4AA1-A83D-AE1E9DE9A5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5-09-15T11:00:12Z</dcterms:modified>
  <cp:revision>9</cp:revision>
  <dc:subject>England in 1060 hastings 1066</dc:subject>
  <dc:title>England in 1060 hastings 1066</dc:title>
</cp:coreProperties>
</file>